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AF7-70CD-4F00-8469-2D726EB6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A49-71E8-4373-9E1E-2A13AAD9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3A3-7B87-4D6A-91D6-341254C8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1C9-B2CE-4FAF-B957-96E106AC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CE2-B231-4D61-A4AA-0681284E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72E-D7EC-4905-BF62-568472BB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E30-B188-48B3-A073-1A4A390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693-4851-4FA6-B86F-5C464FD9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02E-088D-4B12-9E1C-E46F33A2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E57-E6A2-4555-9640-F0B79AEF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684-ED87-4B8A-92C3-AB94B5D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715-2A01-4BEC-BFF2-41F43E8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3AF-FB80-4B5C-A3B6-F8FFC3B8A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njucc.com/" TargetMode="External"/><Relationship Id="rId2" Type="http://schemas.openxmlformats.org/officeDocument/2006/relationships/hyperlink" Target="http://www.manjucc.com/" TargetMode="External"/><Relationship Id="rId3" Type="http://schemas.openxmlformats.org/officeDocument/2006/relationships/hyperlink" Target="http://www.manjucc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  <a:hlinkClick r:id="rId1"/>
              </a:rPr>
              <a:t>http://www.manjuc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  <a:hlinkClick r:id="rId2"/>
              </a:rPr>
              <a:t>.co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排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语言程序设计拾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34"/>
          <p:cNvSpPr/>
          <p:nvPr/>
        </p:nvSpPr>
        <p:spPr>
          <a:xfrm>
            <a:off x="4323960" y="28954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Andy 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圖片 2" descr=""/>
          <p:cNvPicPr/>
          <p:nvPr/>
        </p:nvPicPr>
        <p:blipFill>
          <a:blip r:embed="rId4"/>
          <a:stretch/>
        </p:blipFill>
        <p:spPr>
          <a:xfrm>
            <a:off x="4229280" y="1495440"/>
            <a:ext cx="10666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在定义结构体类型的同时定义结构体变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c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 stu1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tu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通过无名结构体直接定义变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c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 stu1, stu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中的成员也可以是一个结构体变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_Date_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 y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 mon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191120" y="2438280"/>
            <a:ext cx="4038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[8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co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Date_T da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 stu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5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和类型定义结合使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c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 Student_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定义变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tudent_T s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6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714240" y="2405160"/>
            <a:ext cx="835344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bb6"/>
                </a:solidFill>
                <a:latin typeface="Arial"/>
                <a:ea typeface="SimSun"/>
              </a:rPr>
              <a:t>stru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_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tud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_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  <a:ea typeface="SimSun"/>
              </a:rPr>
              <a:t>lo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n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  <a:ea typeface="SimSun"/>
              </a:rPr>
              <a:t>cha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s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  <a:ea typeface="SimSun"/>
              </a:rPr>
              <a:t>i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sco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  <a:ea typeface="SimSun"/>
              </a:rPr>
              <a:t>struc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_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_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birthd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st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  <a:ea typeface="SimSun"/>
              </a:rPr>
              <a:t>张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’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 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198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714240" y="5317920"/>
            <a:ext cx="7796520" cy="1111320"/>
            <a:chOff x="714240" y="5317920"/>
            <a:chExt cx="7796520" cy="1111320"/>
          </a:xfrm>
        </p:grpSpPr>
        <p:sp>
          <p:nvSpPr>
            <p:cNvPr id="123" name="Rectangle 4"/>
            <p:cNvSpPr/>
            <p:nvPr/>
          </p:nvSpPr>
          <p:spPr>
            <a:xfrm flipV="1">
              <a:off x="7663320" y="5680440"/>
              <a:ext cx="8474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 flipV="1">
              <a:off x="6637320" y="5680440"/>
              <a:ext cx="10256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87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mon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 flipV="1">
              <a:off x="5766120" y="5680440"/>
              <a:ext cx="8708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 flipV="1">
              <a:off x="4572720" y="6042960"/>
              <a:ext cx="11930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 flipV="1">
              <a:off x="4572720" y="5317560"/>
              <a:ext cx="119304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score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 flipV="1">
              <a:off x="7663320" y="6042960"/>
              <a:ext cx="8474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 flipV="1">
              <a:off x="6637320" y="6042960"/>
              <a:ext cx="1025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 flipV="1">
              <a:off x="5766120" y="6042960"/>
              <a:ext cx="8708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198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 flipV="1">
              <a:off x="3380760" y="6042960"/>
              <a:ext cx="11916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 flipV="1">
              <a:off x="2739240" y="6042960"/>
              <a:ext cx="6415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 flipV="1">
              <a:off x="1532880" y="6042960"/>
              <a:ext cx="12060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张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 flipV="1">
              <a:off x="5766120" y="5318280"/>
              <a:ext cx="27442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brith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 flipV="1">
              <a:off x="3380760" y="5317560"/>
              <a:ext cx="119160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score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 flipV="1">
              <a:off x="2739240" y="5317560"/>
              <a:ext cx="64152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 flipV="1">
              <a:off x="1532880" y="5317560"/>
              <a:ext cx="120600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name[8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 flipV="1">
              <a:off x="5766120" y="5318280"/>
              <a:ext cx="0" cy="11109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0"/>
            <p:cNvSpPr/>
            <p:nvPr/>
          </p:nvSpPr>
          <p:spPr>
            <a:xfrm>
              <a:off x="1532880" y="6042960"/>
              <a:ext cx="69775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>
              <a:off x="4572720" y="5318280"/>
              <a:ext cx="0" cy="11109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>
              <a:off x="5766120" y="5680440"/>
              <a:ext cx="274428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V="1">
              <a:off x="6637320" y="5680080"/>
              <a:ext cx="0" cy="74844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7663320" y="5680080"/>
              <a:ext cx="0" cy="74844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1532880" y="5318280"/>
              <a:ext cx="0" cy="1110960"/>
            </a:xfrm>
            <a:prstGeom prst="line">
              <a:avLst/>
            </a:prstGeom>
            <a:ln cap="sq"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>
              <a:off x="1532880" y="5318280"/>
              <a:ext cx="6977520" cy="0"/>
            </a:xfrm>
            <a:prstGeom prst="line">
              <a:avLst/>
            </a:prstGeom>
            <a:ln cap="sq"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8510760" y="5318280"/>
              <a:ext cx="0" cy="1110960"/>
            </a:xfrm>
            <a:prstGeom prst="line">
              <a:avLst/>
            </a:prstGeom>
            <a:ln cap="sq"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28"/>
            <p:cNvSpPr/>
            <p:nvPr/>
          </p:nvSpPr>
          <p:spPr>
            <a:xfrm>
              <a:off x="1532880" y="6429240"/>
              <a:ext cx="6977520" cy="0"/>
            </a:xfrm>
            <a:prstGeom prst="line">
              <a:avLst/>
            </a:prstGeom>
            <a:ln cap="sq"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 flipV="1">
              <a:off x="2739240" y="5318280"/>
              <a:ext cx="0" cy="1110960"/>
            </a:xfrm>
            <a:prstGeom prst="line">
              <a:avLst/>
            </a:prstGeom>
            <a:ln cap="sq"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3380760" y="5318280"/>
              <a:ext cx="0" cy="1110960"/>
            </a:xfrm>
            <a:prstGeom prst="line">
              <a:avLst/>
            </a:prstGeom>
            <a:ln cap="sq"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714240" y="6042960"/>
              <a:ext cx="8125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14240" y="5318280"/>
              <a:ext cx="81252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714240" y="5318280"/>
              <a:ext cx="8125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>
              <a:off x="714240" y="6042960"/>
              <a:ext cx="81252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714240" y="6429240"/>
              <a:ext cx="8125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6"/>
            <p:cNvSpPr/>
            <p:nvPr/>
          </p:nvSpPr>
          <p:spPr>
            <a:xfrm>
              <a:off x="714240" y="5318280"/>
              <a:ext cx="0" cy="111096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37"/>
            <p:cNvSpPr/>
            <p:nvPr/>
          </p:nvSpPr>
          <p:spPr>
            <a:xfrm>
              <a:off x="1526760" y="5318280"/>
              <a:ext cx="0" cy="72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8"/>
            <p:cNvSpPr/>
            <p:nvPr/>
          </p:nvSpPr>
          <p:spPr>
            <a:xfrm>
              <a:off x="1526760" y="6042960"/>
              <a:ext cx="0" cy="38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39"/>
          <p:cNvSpPr/>
          <p:nvPr/>
        </p:nvSpPr>
        <p:spPr>
          <a:xfrm>
            <a:off x="733320" y="1120680"/>
            <a:ext cx="78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Sun"/>
              </a:rPr>
              <a:t>结构体成员赋初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9"/>
          <p:cNvSpPr/>
          <p:nvPr/>
        </p:nvSpPr>
        <p:spPr>
          <a:xfrm>
            <a:off x="714240" y="1811160"/>
            <a:ext cx="78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struct</a:t>
            </a:r>
            <a:r>
              <a:rPr b="1" lang="zh-CN" sz="2400" spc="-1" strike="noStrike">
                <a:solidFill>
                  <a:srgbClr val="0000b4"/>
                </a:solidFill>
                <a:latin typeface="Tahoma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_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Sun"/>
              </a:rPr>
              <a:t>at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_T</a:t>
            </a:r>
            <a:r>
              <a:rPr b="1" lang="en-US" sz="2400" spc="-1" strike="noStrike">
                <a:solidFill>
                  <a:srgbClr val="0000b4"/>
                </a:solidFill>
                <a:latin typeface="Tahoma"/>
                <a:ea typeface="SimSun"/>
              </a:rPr>
              <a:t> </a:t>
            </a:r>
            <a:r>
              <a:rPr b="1" lang="en-GB" sz="2400" spc="-1" strike="noStrike">
                <a:solidFill>
                  <a:srgbClr val="c200c2"/>
                </a:solidFill>
                <a:latin typeface="Tahoma"/>
                <a:ea typeface="SimSu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{ 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in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Sun"/>
              </a:rPr>
              <a:t>  ye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Sun"/>
              </a:rPr>
              <a:t>mon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Sun"/>
              </a:rPr>
              <a:t>da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;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Su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7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变量的存储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core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 Student_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定义变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tudent_T s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300720" y="1844640"/>
          <a:ext cx="1227240" cy="4449960"/>
        </p:xfrm>
        <a:graphic>
          <a:graphicData uri="http://schemas.openxmlformats.org/drawingml/2006/table">
            <a:tbl>
              <a:tblPr/>
              <a:tblGrid>
                <a:gridCol w="1227240"/>
              </a:tblGrid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Group 69"/>
          <p:cNvGrpSpPr/>
          <p:nvPr/>
        </p:nvGrpSpPr>
        <p:grpSpPr>
          <a:xfrm>
            <a:off x="5537160" y="1141920"/>
            <a:ext cx="3427560" cy="5125320"/>
            <a:chOff x="5537160" y="1141920"/>
            <a:chExt cx="3427560" cy="5125320"/>
          </a:xfrm>
        </p:grpSpPr>
        <p:sp>
          <p:nvSpPr>
            <p:cNvPr id="164" name="Text Box 70"/>
            <p:cNvSpPr/>
            <p:nvPr/>
          </p:nvSpPr>
          <p:spPr>
            <a:xfrm>
              <a:off x="7727760" y="327168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name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71"/>
            <p:cNvSpPr/>
            <p:nvPr/>
          </p:nvSpPr>
          <p:spPr>
            <a:xfrm>
              <a:off x="7657920" y="4575240"/>
              <a:ext cx="69840" cy="8222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21240 h 822240"/>
                <a:gd name="textAreaBottom" fmla="*/ 80100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2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2"/>
            <p:cNvSpPr/>
            <p:nvPr/>
          </p:nvSpPr>
          <p:spPr>
            <a:xfrm>
              <a:off x="7670880" y="1936800"/>
              <a:ext cx="71280" cy="158256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41040 h 1582560"/>
                <a:gd name="textAreaBottom" fmla="*/ 1541520 h 158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2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3"/>
            <p:cNvSpPr/>
            <p:nvPr/>
          </p:nvSpPr>
          <p:spPr>
            <a:xfrm>
              <a:off x="6180120" y="1141920"/>
              <a:ext cx="147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stu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SimHei"/>
                </a:rPr>
                <a:t>在内存中的状态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74"/>
            <p:cNvSpPr/>
            <p:nvPr/>
          </p:nvSpPr>
          <p:spPr>
            <a:xfrm>
              <a:off x="5565600" y="17920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Dotum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75"/>
            <p:cNvSpPr/>
            <p:nvPr/>
          </p:nvSpPr>
          <p:spPr>
            <a:xfrm>
              <a:off x="5537160" y="35449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2bb6"/>
                  </a:solidFill>
                  <a:latin typeface="Arial"/>
                  <a:ea typeface="Dotum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76"/>
            <p:cNvSpPr/>
            <p:nvPr/>
          </p:nvSpPr>
          <p:spPr>
            <a:xfrm>
              <a:off x="5540400" y="446400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000"/>
                  </a:solidFill>
                  <a:latin typeface="Arial"/>
                  <a:ea typeface="Dotum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77"/>
            <p:cNvSpPr/>
            <p:nvPr/>
          </p:nvSpPr>
          <p:spPr>
            <a:xfrm>
              <a:off x="5541840" y="38224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Dotum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78"/>
            <p:cNvSpPr/>
            <p:nvPr/>
          </p:nvSpPr>
          <p:spPr>
            <a:xfrm>
              <a:off x="7750080" y="175248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name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79"/>
            <p:cNvSpPr/>
            <p:nvPr/>
          </p:nvSpPr>
          <p:spPr>
            <a:xfrm>
              <a:off x="7715160" y="351324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80"/>
            <p:cNvSpPr/>
            <p:nvPr/>
          </p:nvSpPr>
          <p:spPr>
            <a:xfrm>
              <a:off x="7740720" y="4437000"/>
              <a:ext cx="12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score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1"/>
            <p:cNvSpPr/>
            <p:nvPr/>
          </p:nvSpPr>
          <p:spPr>
            <a:xfrm>
              <a:off x="7740720" y="5300640"/>
              <a:ext cx="12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score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Dotum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82"/>
            <p:cNvSpPr/>
            <p:nvPr/>
          </p:nvSpPr>
          <p:spPr>
            <a:xfrm>
              <a:off x="7659720" y="5445000"/>
              <a:ext cx="69840" cy="8222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21240 h 822240"/>
                <a:gd name="textAreaBottom" fmla="*/ 80100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2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83"/>
            <p:cNvSpPr/>
            <p:nvPr/>
          </p:nvSpPr>
          <p:spPr>
            <a:xfrm>
              <a:off x="7524720" y="3716280"/>
              <a:ext cx="360360" cy="0"/>
            </a:xfrm>
            <a:prstGeom prst="line">
              <a:avLst/>
            </a:prstGeom>
            <a:ln w="22320">
              <a:solidFill>
                <a:srgbClr val="002bb4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8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关于存储空间的另一个例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211800" y="1171440"/>
          <a:ext cx="1227240" cy="5332680"/>
        </p:xfrm>
        <a:graphic>
          <a:graphicData uri="http://schemas.openxmlformats.org/drawingml/2006/table">
            <a:tbl>
              <a:tblPr/>
              <a:tblGrid>
                <a:gridCol w="1227240"/>
              </a:tblGrid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57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99ff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54"/>
          <p:cNvSpPr/>
          <p:nvPr/>
        </p:nvSpPr>
        <p:spPr>
          <a:xfrm>
            <a:off x="6243120" y="426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b0"/>
                </a:solidFill>
                <a:latin typeface="Tahoma"/>
                <a:ea typeface="SimHei"/>
              </a:rPr>
              <a:t>用户数据区内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5"/>
          <p:cNvSpPr/>
          <p:nvPr/>
        </p:nvSpPr>
        <p:spPr>
          <a:xfrm>
            <a:off x="782640" y="1486080"/>
            <a:ext cx="43718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struc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_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tud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_T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cha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  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Dot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doubl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  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Dot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	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in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  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Dot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Dotum"/>
              </a:rPr>
              <a:t>}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Dot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 _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Dotum"/>
              </a:rPr>
              <a:t>tud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otum"/>
              </a:rPr>
              <a:t>_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 st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Dotum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(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size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(</a:t>
            </a:r>
            <a:r>
              <a:rPr b="1" lang="zh-CN" sz="2400" spc="-1" strike="noStrike">
                <a:solidFill>
                  <a:srgbClr val="002bb6"/>
                </a:solidFill>
                <a:latin typeface="Arial"/>
              </a:rPr>
              <a:t>doub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)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Hei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Dotum"/>
              </a:rPr>
              <a:t>st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占用 </a:t>
            </a:r>
            <a:r>
              <a:rPr b="1" lang="zh-CN" sz="2400" spc="-1" strike="noStrike">
                <a:solidFill>
                  <a:srgbClr val="ff2f2f"/>
                </a:solidFill>
                <a:latin typeface="Arial"/>
                <a:ea typeface="SimHei"/>
              </a:rPr>
              <a:t>24B</a:t>
            </a:r>
            <a:r>
              <a:rPr b="1" lang="en-US" sz="2400" spc="-1" strike="noStrike">
                <a:solidFill>
                  <a:srgbClr val="ff2f2f"/>
                </a:solidFill>
                <a:latin typeface="Arial"/>
                <a:ea typeface="SimHe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SimHei"/>
              </a:rPr>
              <a:t>内存空间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Sim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56"/>
          <p:cNvGrpSpPr/>
          <p:nvPr/>
        </p:nvGrpSpPr>
        <p:grpSpPr>
          <a:xfrm>
            <a:off x="5438880" y="1077840"/>
            <a:ext cx="3498840" cy="4867200"/>
            <a:chOff x="5438880" y="1077840"/>
            <a:chExt cx="3498840" cy="4867200"/>
          </a:xfrm>
        </p:grpSpPr>
        <p:sp>
          <p:nvSpPr>
            <p:cNvPr id="184" name="AutoShape 57"/>
            <p:cNvSpPr/>
            <p:nvPr/>
          </p:nvSpPr>
          <p:spPr>
            <a:xfrm>
              <a:off x="7545600" y="4784760"/>
              <a:ext cx="69840" cy="8222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21240 h 822240"/>
                <a:gd name="textAreaBottom" fmla="*/ 80100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2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58"/>
            <p:cNvSpPr/>
            <p:nvPr/>
          </p:nvSpPr>
          <p:spPr>
            <a:xfrm>
              <a:off x="7518600" y="2984400"/>
              <a:ext cx="69840" cy="170028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44280 h 1700280"/>
                <a:gd name="textAreaBottom" fmla="*/ 1656000 h 17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2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9"/>
            <p:cNvSpPr/>
            <p:nvPr/>
          </p:nvSpPr>
          <p:spPr>
            <a:xfrm>
              <a:off x="5438880" y="1119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Dotum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0"/>
            <p:cNvSpPr/>
            <p:nvPr/>
          </p:nvSpPr>
          <p:spPr>
            <a:xfrm>
              <a:off x="5448240" y="28717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2bb6"/>
                  </a:solidFill>
                  <a:latin typeface="Arial"/>
                  <a:ea typeface="Dotum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61"/>
            <p:cNvSpPr/>
            <p:nvPr/>
          </p:nvSpPr>
          <p:spPr>
            <a:xfrm>
              <a:off x="5465880" y="557676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000"/>
                  </a:solidFill>
                  <a:latin typeface="Arial"/>
                  <a:ea typeface="Dotum"/>
                </a:rPr>
                <a:t>20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62"/>
            <p:cNvSpPr/>
            <p:nvPr/>
          </p:nvSpPr>
          <p:spPr>
            <a:xfrm>
              <a:off x="5461200" y="467028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Dotum"/>
                </a:rPr>
                <a:t>20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63"/>
            <p:cNvSpPr/>
            <p:nvPr/>
          </p:nvSpPr>
          <p:spPr>
            <a:xfrm>
              <a:off x="7585200" y="2895480"/>
              <a:ext cx="12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变量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64"/>
            <p:cNvSpPr/>
            <p:nvPr/>
          </p:nvSpPr>
          <p:spPr>
            <a:xfrm>
              <a:off x="7723440" y="1077840"/>
              <a:ext cx="12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变量 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65"/>
            <p:cNvSpPr/>
            <p:nvPr/>
          </p:nvSpPr>
          <p:spPr>
            <a:xfrm>
              <a:off x="7520040" y="1255680"/>
              <a:ext cx="360360" cy="0"/>
            </a:xfrm>
            <a:prstGeom prst="line">
              <a:avLst/>
            </a:prstGeom>
            <a:ln w="22320">
              <a:solidFill>
                <a:srgbClr val="002bb4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66"/>
            <p:cNvSpPr/>
            <p:nvPr/>
          </p:nvSpPr>
          <p:spPr>
            <a:xfrm>
              <a:off x="7608960" y="470844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变量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Dotum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文件操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打开文件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指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ILE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打开方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, w,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若以文本方式打开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printf(), fscanf(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若以二进制方式打开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read(), fwrite(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seek(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的使用以及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  <a:ea typeface="新細明體"/>
              </a:rPr>
              <a:t>如何获取二进制文件中结构化内容的信息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（见源文件中结构体的用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优化：用更安全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pen_s(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代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pen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，以及用更安全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scanf_s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代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scanf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提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对于编程技能，可以参照以下课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书籍予以提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undamentals of Data Structures i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lis Horow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artaj Sah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usan Anderson-Fr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ilicon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数据结构基础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HK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语言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朱仲涛 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清华大学出版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（起泡法）排序思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将相邻两个数进行比较，小数放在前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数放在后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22280" y="146052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SimHe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55800" y="1576440"/>
            <a:ext cx="76176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25560" y="521820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原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174760" y="1576440"/>
            <a:ext cx="7621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070000" y="5238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一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44600" y="152712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24080" y="154764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524400" y="1550880"/>
            <a:ext cx="76176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251080" y="1576440"/>
            <a:ext cx="666720" cy="35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567240" y="1552680"/>
            <a:ext cx="76176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546360" y="157464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589200" y="157320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3673440" y="3782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rc 15"/>
          <p:cNvSpPr/>
          <p:nvPr/>
        </p:nvSpPr>
        <p:spPr>
          <a:xfrm rot="21432600">
            <a:off x="2734920" y="177120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rc 16"/>
          <p:cNvSpPr/>
          <p:nvPr/>
        </p:nvSpPr>
        <p:spPr>
          <a:xfrm rot="21432600">
            <a:off x="2758680" y="2971440"/>
            <a:ext cx="28116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944960" y="154476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419640" y="52322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二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767120" y="5232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三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6338880" y="152892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2880" y="157644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6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rc 22"/>
          <p:cNvSpPr/>
          <p:nvPr/>
        </p:nvSpPr>
        <p:spPr>
          <a:xfrm rot="21432600">
            <a:off x="4132080" y="299988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23"/>
          <p:cNvSpPr/>
          <p:nvPr/>
        </p:nvSpPr>
        <p:spPr>
          <a:xfrm rot="21432600">
            <a:off x="4130280" y="3557160"/>
            <a:ext cx="28116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rc 24"/>
          <p:cNvSpPr/>
          <p:nvPr/>
        </p:nvSpPr>
        <p:spPr>
          <a:xfrm rot="21432600">
            <a:off x="2784240" y="236664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25"/>
          <p:cNvSpPr/>
          <p:nvPr/>
        </p:nvSpPr>
        <p:spPr>
          <a:xfrm rot="21432600">
            <a:off x="2757240" y="355716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rc 26"/>
          <p:cNvSpPr/>
          <p:nvPr/>
        </p:nvSpPr>
        <p:spPr>
          <a:xfrm rot="21432600">
            <a:off x="2757240" y="421920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rc 27"/>
          <p:cNvSpPr/>
          <p:nvPr/>
        </p:nvSpPr>
        <p:spPr>
          <a:xfrm rot="21432600">
            <a:off x="4106520" y="178092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rc 28"/>
          <p:cNvSpPr/>
          <p:nvPr/>
        </p:nvSpPr>
        <p:spPr>
          <a:xfrm rot="21432600">
            <a:off x="4155840" y="241416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7661160" y="1528920"/>
            <a:ext cx="76212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4965840" y="1576440"/>
            <a:ext cx="761760" cy="354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SimHei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fbd"/>
                </a:solidFill>
                <a:latin typeface="Tahoma"/>
                <a:ea typeface="SimHei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1"/>
          <p:cNvSpPr/>
          <p:nvPr/>
        </p:nvSpPr>
        <p:spPr>
          <a:xfrm flipV="1">
            <a:off x="4994280" y="3252960"/>
            <a:ext cx="5796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6114960" y="5232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四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7445520" y="52322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第五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rc 34"/>
          <p:cNvSpPr/>
          <p:nvPr/>
        </p:nvSpPr>
        <p:spPr>
          <a:xfrm rot="21432600">
            <a:off x="6899040" y="172836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6311880" y="274464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Su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7661160" y="210996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Tahoma"/>
                <a:ea typeface="SimSu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rc 37"/>
          <p:cNvSpPr/>
          <p:nvPr/>
        </p:nvSpPr>
        <p:spPr>
          <a:xfrm rot="21432600">
            <a:off x="8270640" y="180468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rc 38"/>
          <p:cNvSpPr/>
          <p:nvPr/>
        </p:nvSpPr>
        <p:spPr>
          <a:xfrm rot="21432600">
            <a:off x="6899040" y="236340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2152800" y="56451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SimSun"/>
              </a:rPr>
              <a:t>i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0"/>
          <p:cNvSpPr/>
          <p:nvPr/>
        </p:nvSpPr>
        <p:spPr>
          <a:xfrm>
            <a:off x="2378160" y="440856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rc 42"/>
          <p:cNvSpPr/>
          <p:nvPr/>
        </p:nvSpPr>
        <p:spPr>
          <a:xfrm rot="21432600">
            <a:off x="5540040" y="308736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rc 43"/>
          <p:cNvSpPr/>
          <p:nvPr/>
        </p:nvSpPr>
        <p:spPr>
          <a:xfrm rot="21432600">
            <a:off x="5540040" y="236664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rc 44"/>
          <p:cNvSpPr/>
          <p:nvPr/>
        </p:nvSpPr>
        <p:spPr>
          <a:xfrm rot="21432600">
            <a:off x="5540040" y="1719000"/>
            <a:ext cx="280800" cy="650880"/>
          </a:xfrm>
          <a:custGeom>
            <a:avLst/>
            <a:gdLst/>
            <a:ahLst/>
            <a:rect l="l" t="t" r="r" b="b"/>
            <a:pathLst>
              <a:path fill="none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</a:path>
              <a:path stroke="0" w="21600" h="43122">
                <a:moveTo>
                  <a:pt x="1601" y="0"/>
                </a:moveTo>
                <a:cubicBezTo>
                  <a:pt x="12878" y="839"/>
                  <a:pt x="21600" y="10233"/>
                  <a:pt x="21600" y="21541"/>
                </a:cubicBezTo>
                <a:cubicBezTo>
                  <a:pt x="21600" y="-32422"/>
                  <a:pt x="12478" y="-22905"/>
                  <a:pt x="914" y="-22415"/>
                </a:cubicBezTo>
                <a:lnTo>
                  <a:pt x="0" y="21541"/>
                </a:lnTo>
                <a:lnTo>
                  <a:pt x="1601" y="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5"/>
          <p:cNvSpPr/>
          <p:nvPr/>
        </p:nvSpPr>
        <p:spPr>
          <a:xfrm>
            <a:off x="573120" y="2136600"/>
            <a:ext cx="0" cy="2391120"/>
          </a:xfrm>
          <a:prstGeom prst="line">
            <a:avLst/>
          </a:prstGeom>
          <a:ln w="28440">
            <a:solidFill>
              <a:srgbClr val="0000b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187200" y="1789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Times New Roman"/>
                <a:ea typeface="楷体_GB2312"/>
              </a:rPr>
              <a:t>小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154080" y="481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Times New Roman"/>
                <a:ea typeface="楷体_GB2312"/>
              </a:rPr>
              <a:t>大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2660760" y="5896080"/>
            <a:ext cx="4159080" cy="0"/>
          </a:xfrm>
          <a:prstGeom prst="line">
            <a:avLst/>
          </a:prstGeom>
          <a:ln w="22320">
            <a:solidFill>
              <a:srgbClr val="ff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9"/>
          <p:cNvSpPr/>
          <p:nvPr/>
        </p:nvSpPr>
        <p:spPr>
          <a:xfrm flipH="1">
            <a:off x="280440" y="1773360"/>
            <a:ext cx="685800" cy="37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SimSu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0"/>
          <p:cNvSpPr/>
          <p:nvPr/>
        </p:nvSpPr>
        <p:spPr>
          <a:xfrm>
            <a:off x="623880" y="2336760"/>
            <a:ext cx="3240" cy="2103480"/>
          </a:xfrm>
          <a:prstGeom prst="line">
            <a:avLst/>
          </a:prstGeom>
          <a:ln w="22320">
            <a:solidFill>
              <a:srgbClr val="ff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7480440" y="572148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Times New Roman"/>
                <a:ea typeface="SimSun"/>
              </a:rPr>
              <a:t>N-1 </a:t>
            </a:r>
            <a:r>
              <a:rPr b="1" lang="zh-CN" sz="1800" spc="-1" strike="noStrike">
                <a:solidFill>
                  <a:srgbClr val="ff33cc"/>
                </a:solidFill>
                <a:latin typeface="Times New Roman"/>
                <a:ea typeface="SimSun"/>
              </a:rPr>
              <a:t>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算法描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[j] ≤ a[j+1] </a:t>
            </a:r>
            <a:r>
              <a:rPr b="0" lang="zh-HK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时保持原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[j] 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[j+1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时进行交换，保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[j+1]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为较大的数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伪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1..(N-1) // </a:t>
            </a:r>
            <a:r>
              <a:rPr b="0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比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-1 </a:t>
            </a:r>
            <a:r>
              <a:rPr b="0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j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0..(N-i-1) // </a:t>
            </a:r>
            <a:r>
              <a:rPr b="0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 </a:t>
            </a:r>
            <a:r>
              <a:rPr b="0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轮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[j] &gt; a[j+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wap(a[j], a[j+1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代码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新細明體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WAP(x,y,t) ((t) = (x), (x) = (y), (y) = (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新細明體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[N] = { 76, 13, 97, 65, 38, 49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新細明體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 = 1; i &lt; N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新細明體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j = 0; j &lt; N - i; j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a[j] &gt; a[j+1]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WAP(a[j], a[j+1], tem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冒泡法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5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对于上述经典的冒泡排序法可否减少排序趟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选择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每一轮选出最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大的元素放在最前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伪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0..(N-1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j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(i+1)..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[i] &gt; a[j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wap(a[i], a[j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选择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代码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新細明體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WAP(x,y,t) ((t) = (x), (x) = (y), (y) = (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  <a:ea typeface="新細明體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[N] = { 76, 13, 97, 65, 38, 49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 = 0; i &lt; N - 1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j = i + 1; j &lt; N; j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a[i] &gt; a[j]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  <a:ea typeface="新細明體"/>
              </a:rPr>
              <a:t>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WAP(a[i], a[j], tem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结构体类型的定义，如下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c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定义结构体变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s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Mandrew Smith</cp:lastModifiedBy>
  <cp:lastPrinted>1999-10-04T18:53:50Z</cp:lastPrinted>
  <dcterms:modified xsi:type="dcterms:W3CDTF">2019-09-26T15:26:43Z</dcterms:modified>
  <cp:revision>506</cp:revision>
  <dc:subject/>
  <dc:title>Computer Vision</dc:title>
</cp:coreProperties>
</file>