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0EE-9E3B-43F3-A712-AF07932A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470-F5A3-463B-84E1-978BE30C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CE7-8B80-4BDE-942D-7E9A036B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32F-80BE-42BD-B57A-AA89D2A7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0B2-81A0-4830-A1F1-0B01E1C7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1BE-94AF-434E-9AF5-FFB245BA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5BC-FB7C-4E8E-9160-8F67E07E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56B8-2DEF-453F-B43C-BBF17727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6B7-5CE6-40A2-A875-52A67CA8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4FB-923F-48FD-BBF9-5DC7D973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516-85FF-460D-A7DC-6583DEDC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BBB-643B-4EFD-A818-E15666A6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6190-D5A9-4C87-A417-F62048250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anjucc.com/" TargetMode="External"/><Relationship Id="rId2" Type="http://schemas.openxmlformats.org/officeDocument/2006/relationships/hyperlink" Target="http://www.manjucc.com/" TargetMode="External"/><Relationship Id="rId3" Type="http://schemas.openxmlformats.org/officeDocument/2006/relationships/hyperlink" Target="http://www.manjucc.com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新細明體"/>
                <a:hlinkClick r:id="rId1"/>
              </a:rPr>
              <a:t>http://www.manjucc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新細明體"/>
                <a:hlinkClick r:id="rId2"/>
              </a:rPr>
              <a:t>.com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新細明體"/>
                <a:hlinkClick r:id="rId3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文档的组织与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文件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排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C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语言程序课程设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34"/>
          <p:cNvSpPr/>
          <p:nvPr/>
        </p:nvSpPr>
        <p:spPr>
          <a:xfrm>
            <a:off x="4323960" y="289548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新細明體"/>
              </a:rPr>
              <a:t>Andy 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圖片 2" descr=""/>
          <p:cNvPicPr/>
          <p:nvPr/>
        </p:nvPicPr>
        <p:blipFill>
          <a:blip r:embed="rId4"/>
          <a:stretch/>
        </p:blipFill>
        <p:spPr>
          <a:xfrm>
            <a:off x="4229280" y="1495440"/>
            <a:ext cx="10666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提高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对于单个表，可从以下几个方面优化以提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写一个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akefil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用以编译源代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用更安全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open_s(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代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ope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应用其他排序算法如冒泡法排序，看和选择排序有何异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在一些复杂的场景，可能需要两个或多个表协同工作，这就有点数据库的味道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本次信息管理系统设计的核心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本次学生信息管理系统的大致模样（数据结构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新細明體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新細明體"/>
              </a:rPr>
              <a:t>：学生信息管理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每一列所代表的意义称作属性，如学号、姓名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每一个属性具体的值成为属性值，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1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、赵紫州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每一行代表一条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这些记录的集合称之为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该表在内存中可用结构体数组表示（规模不大的情况下），在外存中可用文件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3880" y="1397160"/>
          <a:ext cx="6096240" cy="239364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学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姓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性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出生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出生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班级编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赵紫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992/12/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山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01918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本次信息管理系统设计的核心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本次信息管理系统的功能要求（操作方法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增：增加一条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删：删除一条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改：修改一条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查询：查询一条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排序：对所有记录按一定条件进行排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本次课程设计的考察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本次课程设计从以下几个方面考察学生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编程技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语言的基本使用技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将一个复杂问题分成不同模块分而治之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文档、源代码组织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基本的编译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对结构体变量的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对文件的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简单的排序算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良好的编程风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文档的组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以学生信息管理系统为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ain.c – main(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入口和主程序框架，主程序框架越简单越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tudent.h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学生信息管理系统的头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tudent.c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学生信息管理系统实现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Readme.txt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说明文档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说明源代码的编译环境和如何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课程设计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其他文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上述处理问题的哲学是：将一个复杂的问题分成不同的模块（或层）分而治之，每个模块（层）做好自己的事情，模块（层）之间互相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源文件的编译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以目前最新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indows VS201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为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icrosoft Visual Studio 2019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的下载和安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选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Developer Command Prompt for VS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VC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的编译器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，可用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l /?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查看其用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执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l main.c student.c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即可获得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ain.ex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文件操作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打开文件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文件指针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ILE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文件打开方式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r, w,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若以文本方式打开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printf(), fscanf(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的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若以二进制方式打开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read(), fwrite()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seek()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的使用以及</a:t>
            </a:r>
            <a:r>
              <a:rPr b="0" lang="zh-CN" sz="2000" spc="-1" strike="noStrike">
                <a:solidFill>
                  <a:srgbClr val="c00000"/>
                </a:solidFill>
                <a:latin typeface="Arial"/>
                <a:ea typeface="新細明體"/>
              </a:rPr>
              <a:t>如何获取二进制文件中结构化内容的信息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（见源文件中结构体的用法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排序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細明體"/>
              </a:rPr>
              <a:t>排序方法有如下伪码所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tudent_T student[MAX_NU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i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0..(MAX_NUM-1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j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(i+1)..(MAX_NUM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新細明體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student[i].id &gt; student[j].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wap(student[i], student[j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排序（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新細明體"/>
              </a:rPr>
              <a:t>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新細明體"/>
              </a:rPr>
              <a:t>代码示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新細明體"/>
              </a:rPr>
              <a:t>typed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新細明體"/>
              </a:rPr>
              <a:t>str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_Student_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新細明體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name[1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新細明體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se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class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} Student_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新細明體"/>
              </a:rPr>
              <a:t>#def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AX_NUM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tudent_T stu[MAX_NUM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字方塊 1"/>
          <p:cNvSpPr/>
          <p:nvPr/>
        </p:nvSpPr>
        <p:spPr>
          <a:xfrm>
            <a:off x="3657600" y="2077920"/>
            <a:ext cx="5334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= 0; i &lt; MAX_NUM - 1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 = i + 1; j &lt; MAX_NUM; 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tu[j].id == 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000" spc="-1" strike="noStrike">
                <a:solidFill>
                  <a:srgbClr val="32946a"/>
                </a:solidFill>
                <a:latin typeface="Times New Roman"/>
              </a:rPr>
              <a:t>// do n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tu[i].id &gt; stu[j].i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2946a"/>
                </a:solidFill>
                <a:latin typeface="Times New Roman"/>
              </a:rPr>
              <a:t>// sw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_T st = stu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[i] = stu[j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[j] = 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0T17:20:27Z</dcterms:created>
  <dc:creator>Steve Seitz</dc:creator>
  <dc:description/>
  <dc:language>en-US</dc:language>
  <cp:lastModifiedBy>Mandrew Smith</cp:lastModifiedBy>
  <cp:lastPrinted>1999-10-04T18:53:50Z</cp:lastPrinted>
  <dcterms:modified xsi:type="dcterms:W3CDTF">2019-09-26T23:42:01Z</dcterms:modified>
  <cp:revision>475</cp:revision>
  <dc:subject/>
  <dc:title>Computer Vision</dc:title>
</cp:coreProperties>
</file>